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621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54B3-059A-4383-BCE4-246252F1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901440"/>
            <a:ext cx="647676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2933640"/>
            <a:ext cx="647676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6118920"/>
            <a:ext cx="647676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A995-D338-4201-8983-2CD9697A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901440"/>
            <a:ext cx="647676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2933640"/>
            <a:ext cx="3160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2933640"/>
            <a:ext cx="3160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6118920"/>
            <a:ext cx="3160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6118920"/>
            <a:ext cx="3160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9F34-B3D6-42F9-AA71-1094D9A2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901440"/>
            <a:ext cx="647676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2933640"/>
            <a:ext cx="208512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2933640"/>
            <a:ext cx="208512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2933640"/>
            <a:ext cx="208512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6118920"/>
            <a:ext cx="208512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6118920"/>
            <a:ext cx="208512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6118920"/>
            <a:ext cx="208512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90AC-C68A-42C4-8DC8-36ACB723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901440"/>
            <a:ext cx="647676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2933640"/>
            <a:ext cx="647676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0523-5767-43AE-99A4-DDBB86E8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901440"/>
            <a:ext cx="647676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2933640"/>
            <a:ext cx="6476760" cy="60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8F20-001A-492E-BBF6-D8A61C47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901440"/>
            <a:ext cx="647676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2933640"/>
            <a:ext cx="3160440" cy="60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2933640"/>
            <a:ext cx="3160440" cy="60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603-20B5-47C6-B07D-7DD20C5D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901440"/>
            <a:ext cx="647676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6AD-FBC9-436F-85F6-8FA77D16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901440"/>
            <a:ext cx="6476760" cy="78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7392-300B-4269-9A46-93DAED72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901440"/>
            <a:ext cx="647676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2933640"/>
            <a:ext cx="3160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2933640"/>
            <a:ext cx="3160440" cy="60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6118920"/>
            <a:ext cx="3160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1FF-781B-4829-B1EF-6EF02365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901440"/>
            <a:ext cx="647676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2933640"/>
            <a:ext cx="3160440" cy="60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2933640"/>
            <a:ext cx="3160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6118920"/>
            <a:ext cx="3160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C633-52CC-467A-8296-B4CC688C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901440"/>
            <a:ext cx="647676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2933640"/>
            <a:ext cx="3160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2933640"/>
            <a:ext cx="3160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6118920"/>
            <a:ext cx="647676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E7A-7667-4AAE-AB16-178F45AB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901440"/>
            <a:ext cx="647676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2933640"/>
            <a:ext cx="6476760" cy="60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680" y="9256320"/>
            <a:ext cx="15890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1720" y="9256320"/>
            <a:ext cx="24159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9256320"/>
            <a:ext cx="1589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E579-2CF8-4A72-B807-972D8907C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ShockwaveFlash1"/>
          <p:cNvGraphicFramePr/>
          <p:nvPr/>
        </p:nvGraphicFramePr>
        <p:xfrm>
          <a:off x="0" y="1650960"/>
          <a:ext cx="6929280" cy="762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50960"/>
                    <a:ext cx="6929280" cy="762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9560" y="456840"/>
            <a:ext cx="674064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FERMAT’S THEOREM REVISITE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76200" y="2646360"/>
            <a:ext cx="674064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rmat’s Theorem can be stated using the idea of critical numbers as follow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Fermat’s Theorem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has a local minimum or local maximum at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a critical number o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9560" y="456840"/>
            <a:ext cx="674064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HEORE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76200" y="2646360"/>
            <a:ext cx="680400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ontinuou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n a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losed interv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], then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ttains both an absolute minimum and absolute maximum value on that interva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560" y="456840"/>
            <a:ext cx="674064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THE CLOSED INTERVAL METHO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39560" y="4227480"/>
            <a:ext cx="6740640" cy="58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d the values o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t the critical numbers o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n 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d the values o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t the endpoints of the interva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largest of the values from Steps 1 and 2 is the absolute maximum value; the smallest of these values is the absolute minimum valu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12840" y="1855800"/>
            <a:ext cx="69310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find th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absolut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aximum and minimum values of a continuous function on a closed interval [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]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30000" y="3206880"/>
            <a:ext cx="6359400" cy="20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ection 3.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01320" y="5808600"/>
            <a:ext cx="5216760" cy="24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ximum and Minimum Valu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9560" y="456840"/>
            <a:ext cx="674064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What is the slope of the tangent line at the extrema of a function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39560" y="2421000"/>
            <a:ext cx="67406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is the slope of a function at a hill? At a valle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614760" y="3522600"/>
            <a:ext cx="39466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What happens to the slope as x approaches from the – sid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254160" y="3556080"/>
            <a:ext cx="3144600" cy="2127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9360" y="6375240"/>
            <a:ext cx="42008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What happens to the slope as x approaches from the +sid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809880" y="4960800"/>
            <a:ext cx="38624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Becomes less negat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4210200" y="6400800"/>
            <a:ext cx="22525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Becomes less posit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560" y="456840"/>
            <a:ext cx="674064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What is the slope of the tangent line at the extrema of a function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39560" y="2421000"/>
            <a:ext cx="67406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is the slope of a function at a </a:t>
            </a: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hil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? At a </a:t>
            </a:r>
            <a:r>
              <a:rPr b="0" lang="en-US" sz="2700" spc="-1" strike="noStrike">
                <a:solidFill>
                  <a:srgbClr val="7878de"/>
                </a:solidFill>
                <a:latin typeface="Arial"/>
              </a:rPr>
              <a:t>valle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98520" y="5892840"/>
            <a:ext cx="318276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What happens to the slope as x approaches from the – si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422280" y="3726000"/>
            <a:ext cx="3006720" cy="2031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1947960" y="7686720"/>
            <a:ext cx="318276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What happens to the slope as x approaches from the +si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581280" y="3403440"/>
            <a:ext cx="27608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happens to the slope as x approaches from the – si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31640" y="7101000"/>
            <a:ext cx="233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Becomes less 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46040" y="8661240"/>
            <a:ext cx="3691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Becomes less ne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732640" y="4284720"/>
            <a:ext cx="174456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ecomes less ne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538440" y="5172120"/>
            <a:ext cx="284652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happens to the slope as x approaches from the +si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276880" y="6116760"/>
            <a:ext cx="18288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ecomes less 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9560" y="456840"/>
            <a:ext cx="674064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BSOLUTE MINIMUM AND ABSOLUTE MAXIMU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39560" y="2421000"/>
            <a:ext cx="6740640" cy="66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has an </a:t>
            </a:r>
            <a:r>
              <a:rPr b="1" lang="en-US" sz="2300" spc="-1" strike="noStrike" u="sng">
                <a:solidFill>
                  <a:srgbClr val="3333ff"/>
                </a:solidFill>
                <a:uFillTx/>
                <a:latin typeface="Arial"/>
              </a:rPr>
              <a:t>absolute</a:t>
            </a:r>
            <a:r>
              <a:rPr b="0" lang="en-US" sz="23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1" lang="en-US" sz="2300" spc="-1" strike="noStrike" u="sng">
                <a:solidFill>
                  <a:srgbClr val="3333ff"/>
                </a:solidFill>
                <a:uFillTx/>
                <a:latin typeface="Arial"/>
              </a:rPr>
              <a:t>global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300" spc="-1" strike="noStrike" u="sng">
                <a:solidFill>
                  <a:srgbClr val="3333ff"/>
                </a:solidFill>
                <a:uFillTx/>
                <a:latin typeface="Arial"/>
              </a:rPr>
              <a:t>maximum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≥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for all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s the domain of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 The number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is called the maximum value of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has an </a:t>
            </a:r>
            <a:r>
              <a:rPr b="1" lang="en-US" sz="2300" spc="-1" strike="noStrike" u="sng">
                <a:solidFill>
                  <a:srgbClr val="3333ff"/>
                </a:solidFill>
                <a:uFillTx/>
                <a:latin typeface="Arial"/>
              </a:rPr>
              <a:t>absolut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lang="en-US" sz="2300" spc="-1" strike="noStrike" u="sng">
                <a:solidFill>
                  <a:srgbClr val="3333ff"/>
                </a:solidFill>
                <a:uFillTx/>
                <a:latin typeface="Arial"/>
              </a:rPr>
              <a:t>global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300" spc="-1" strike="noStrike" u="sng">
                <a:solidFill>
                  <a:srgbClr val="3333ff"/>
                </a:solidFill>
                <a:uFillTx/>
                <a:latin typeface="Arial"/>
              </a:rPr>
              <a:t>minimum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≤ f (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for all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s the domain of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 The number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is called the minimum value of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maximum and minimum values of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re called the </a:t>
            </a:r>
            <a:r>
              <a:rPr b="1" lang="en-US" sz="2300" spc="-1" strike="noStrike" u="sng">
                <a:solidFill>
                  <a:srgbClr val="3333ff"/>
                </a:solidFill>
                <a:uFillTx/>
                <a:latin typeface="Arial"/>
              </a:rPr>
              <a:t>extreme value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560" y="456840"/>
            <a:ext cx="674064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LOCAL MINIMUM AND</a:t>
            </a:r>
            <a:br>
              <a:rPr sz="3300"/>
            </a:b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LOCAL MAXIMU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39560" y="2421000"/>
            <a:ext cx="6740640" cy="66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1" lang="en-US" sz="2700" spc="-1" strike="noStrike" u="sng">
                <a:solidFill>
                  <a:srgbClr val="3333ff"/>
                </a:solidFill>
                <a:uFillTx/>
                <a:latin typeface="Arial"/>
              </a:rPr>
              <a:t>loc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lang="en-US" sz="2700" spc="-1" strike="noStrike" u="sng">
                <a:solidFill>
                  <a:srgbClr val="3333ff"/>
                </a:solidFill>
                <a:uFillTx/>
                <a:latin typeface="Arial"/>
              </a:rPr>
              <a:t>relativ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700" spc="-1" strike="noStrike" u="sng">
                <a:solidFill>
                  <a:srgbClr val="3333ff"/>
                </a:solidFill>
                <a:uFillTx/>
                <a:latin typeface="Arial"/>
              </a:rPr>
              <a:t>maximu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≥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for all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near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1" lang="en-US" sz="2700" spc="-1" strike="noStrike" u="sng">
                <a:solidFill>
                  <a:srgbClr val="3333ff"/>
                </a:solidFill>
                <a:uFillTx/>
                <a:latin typeface="Arial"/>
              </a:rPr>
              <a:t>loc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lang="en-US" sz="2700" spc="-1" strike="noStrike" u="sng">
                <a:solidFill>
                  <a:srgbClr val="3333ff"/>
                </a:solidFill>
                <a:uFillTx/>
                <a:latin typeface="Arial"/>
              </a:rPr>
              <a:t>relativ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700" spc="-1" strike="noStrike" u="sng">
                <a:solidFill>
                  <a:srgbClr val="3333ff"/>
                </a:solidFill>
                <a:uFillTx/>
                <a:latin typeface="Arial"/>
              </a:rPr>
              <a:t>minimu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≤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for all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near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9560" y="456840"/>
            <a:ext cx="674064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THE EXTREME VALUE THEORE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76200" y="2646360"/>
            <a:ext cx="674064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heorem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continuous on a closed interval [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], then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tains an absolute maximum valu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and an absolute minimum valu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at some numbers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n [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]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560" y="456840"/>
            <a:ext cx="674064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FERMAT’S THEORE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76200" y="2646360"/>
            <a:ext cx="7185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heorem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a local maximum or minimum at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and 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′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exists, then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′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= 0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9560" y="456840"/>
            <a:ext cx="674064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RITICAL NUMBER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76200" y="2760840"/>
            <a:ext cx="67406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700" spc="-1" strike="noStrike" u="sng">
                <a:solidFill>
                  <a:srgbClr val="3333ff"/>
                </a:solidFill>
                <a:uFillTx/>
                <a:latin typeface="Arial"/>
              </a:rPr>
              <a:t>critical numb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a function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a number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n the domain o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such that either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′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= 0 or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′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does not exis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Raja, Sheila</cp:lastModifiedBy>
  <dcterms:modified xsi:type="dcterms:W3CDTF">2011-11-07T20:29:49Z</dcterms:modified>
  <cp:revision>6</cp:revision>
  <dc:subject/>
  <dc:title>PowerPoint Presentation</dc:title>
</cp:coreProperties>
</file>